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1D5-1D8B-4B33-AA3C-F39CAB1F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173-DFA2-4C2B-874F-47334FDF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AA09-516B-42DE-9D9E-C6ABF306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21E-F88A-4389-B311-00E34C56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13D8-0046-4CBB-A65F-BB6914F7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1F11-5A12-4CAD-9B99-A8822019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F57B-BDF4-4048-8C9A-ABC4BF50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EFBF-7676-4268-A396-A4FF9245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333B-8D7D-4D34-A52D-3159D7DA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342D-FCC3-49DF-A902-B42E7489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3B29-C805-40DB-AD8F-365CA890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800-0225-4BC4-8F5A-F31FAEC4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F42C-C740-4945-B2BE-F31657AE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1406-A5B0-4455-BDBD-A6A3C6AD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DCEA-E9E4-4E55-A901-C4052FA6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3870-CC72-4B05-9917-69D45B2A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8B38-444F-44EF-88A9-67C04201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B16-B790-48CF-830D-7036B4F9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038-9E47-4344-BF0D-0D090936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DA5-4052-40FB-8484-82E931C0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4FCC-8998-4FE7-99C2-F39AA9C3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779-F148-4C73-B173-AA7C1666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8A0-D01A-49BA-9A83-57576B14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0EB-704D-4090-831D-9470C851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2A1D-35FD-475F-8C61-E1911E1685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15920"/>
            <a:ext cx="37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FA02-C0B7-4EC5-BE2F-27B803AE31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95280" y="1052640"/>
            <a:ext cx="424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dstawową jednostką długości stosowaną w Polsce do początków XX wieku był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łokieć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stosowany do mierzenia tekstyliów i krótszych przedmiotó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Długości łokcia były ustalane lokalnie dlatego różniły się one miedzy sobą. Na początku XVI wieku </a:t>
            </a:r>
            <a:r>
              <a:rPr b="1" lang="pl-PL" sz="1600" spc="-1" strike="noStrike">
                <a:solidFill>
                  <a:srgbClr val="3366ff"/>
                </a:solidFill>
                <a:latin typeface="Arial"/>
              </a:rPr>
              <a:t>łokieć krakowski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był krótszy o 14 cm od </a:t>
            </a:r>
            <a:r>
              <a:rPr b="1" lang="pl-PL" sz="1600" spc="-1" strike="noStrike">
                <a:solidFill>
                  <a:srgbClr val="3366ff"/>
                </a:solidFill>
                <a:latin typeface="Arial"/>
              </a:rPr>
              <a:t>łokcia lwowskiego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nną jednostką miary długości była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stopa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, która służyła między innymi do mierzenia odległości np. przy sadzeniu kartofl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Jednostką służącą do mierzenia głównie drewna, sieci oraz dłuższych przedmiotów był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sążeń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raz 12" descr="http://www.qdnet.pl/unas/nr35/miary_1.JPG"/>
          <p:cNvPicPr/>
          <p:nvPr/>
        </p:nvPicPr>
        <p:blipFill>
          <a:blip r:embed="rId1"/>
          <a:stretch/>
        </p:blipFill>
        <p:spPr>
          <a:xfrm>
            <a:off x="1835280" y="549360"/>
            <a:ext cx="900000" cy="5184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16000" y="580536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Łokieć polski z 1651 ro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206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TAROPOLSKIE JEDNOSTKI DŁUGOŚCI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280" y="6764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raz 14" descr=""/>
          <p:cNvPicPr/>
          <p:nvPr/>
        </p:nvPicPr>
        <p:blipFill>
          <a:blip r:embed="rId1"/>
          <a:stretch/>
        </p:blipFill>
        <p:spPr>
          <a:xfrm>
            <a:off x="1150920" y="1736640"/>
            <a:ext cx="1871640" cy="1152720"/>
          </a:xfrm>
          <a:prstGeom prst="rect">
            <a:avLst/>
          </a:prstGeom>
          <a:ln w="0">
            <a:noFill/>
          </a:ln>
        </p:spPr>
      </p:pic>
      <p:pic>
        <p:nvPicPr>
          <p:cNvPr id="100" name="Obraz 16" descr=""/>
          <p:cNvPicPr/>
          <p:nvPr/>
        </p:nvPicPr>
        <p:blipFill>
          <a:blip r:embed="rId2"/>
          <a:stretch/>
        </p:blipFill>
        <p:spPr>
          <a:xfrm>
            <a:off x="6551640" y="1089000"/>
            <a:ext cx="931680" cy="1798560"/>
          </a:xfrm>
          <a:prstGeom prst="rect">
            <a:avLst/>
          </a:prstGeom>
          <a:ln w="0">
            <a:noFill/>
          </a:ln>
        </p:spPr>
      </p:pic>
      <p:pic>
        <p:nvPicPr>
          <p:cNvPr id="101" name="Obraz 15" descr=""/>
          <p:cNvPicPr/>
          <p:nvPr/>
        </p:nvPicPr>
        <p:blipFill>
          <a:blip r:embed="rId3"/>
          <a:stretch/>
        </p:blipFill>
        <p:spPr>
          <a:xfrm>
            <a:off x="1332000" y="3824280"/>
            <a:ext cx="137952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7" descr=""/>
          <p:cNvPicPr/>
          <p:nvPr/>
        </p:nvPicPr>
        <p:blipFill>
          <a:blip r:embed="rId4"/>
          <a:stretch/>
        </p:blipFill>
        <p:spPr>
          <a:xfrm>
            <a:off x="3708360" y="1628640"/>
            <a:ext cx="1727280" cy="1287720"/>
          </a:xfrm>
          <a:prstGeom prst="rect">
            <a:avLst/>
          </a:prstGeom>
          <a:ln w="0">
            <a:noFill/>
          </a:ln>
        </p:spPr>
      </p:pic>
      <p:pic>
        <p:nvPicPr>
          <p:cNvPr id="103" name="Obraz 19" descr=""/>
          <p:cNvPicPr/>
          <p:nvPr/>
        </p:nvPicPr>
        <p:blipFill>
          <a:blip r:embed="rId5"/>
          <a:stretch/>
        </p:blipFill>
        <p:spPr>
          <a:xfrm>
            <a:off x="6372360" y="4044960"/>
            <a:ext cx="1774800" cy="1724040"/>
          </a:xfrm>
          <a:prstGeom prst="rect">
            <a:avLst/>
          </a:prstGeom>
          <a:ln w="0">
            <a:noFill/>
          </a:ln>
        </p:spPr>
      </p:pic>
      <p:pic>
        <p:nvPicPr>
          <p:cNvPr id="104" name="Obraz 18" descr=""/>
          <p:cNvPicPr/>
          <p:nvPr/>
        </p:nvPicPr>
        <p:blipFill>
          <a:blip r:embed="rId6"/>
          <a:stretch/>
        </p:blipFill>
        <p:spPr>
          <a:xfrm>
            <a:off x="3770280" y="4508640"/>
            <a:ext cx="1602000" cy="1290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92000" y="3068640"/>
            <a:ext cx="27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top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odległość między piętą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końcem najdłuższego palca st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59500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Łokie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odległość od łokcia do środkowego pal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92720" y="3068640"/>
            <a:ext cx="16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ło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zerokość czterech palców rę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3068640"/>
            <a:ext cx="197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ięd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odległość między końcem kciuka i końcem środkowego pal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5950080"/>
            <a:ext cx="197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ro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odległość między piętą jednej a piętą drugiej stopy podczas chodz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32360" y="5950080"/>
            <a:ext cx="27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ąże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zerokość rozpostartych ramion – tą jednostkę wymierzano ścięte drzewo układane w stosy zwane sąga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Podaj, jakie jednostki długości </a:t>
            </a:r>
            <a:br>
              <a:rPr sz="2400"/>
            </a:b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występują w wierszach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000" y="2349360"/>
            <a:ext cx="432144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66ff"/>
                </a:solidFill>
                <a:latin typeface="Arial"/>
              </a:rPr>
              <a:t>Jean de La Fontaine - </a:t>
            </a:r>
            <a:r>
              <a:rPr b="0" i="1" lang="pl-PL" sz="1600" spc="-1" strike="noStrike">
                <a:solidFill>
                  <a:srgbClr val="3366ff"/>
                </a:solidFill>
                <a:latin typeface="Arial"/>
              </a:rPr>
              <a:t>Żółw i zają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Chyży, wysmukły i zwrotny zając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Napotkał żółwia jakoś przebiegając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"Jak się masz, moja ty skorupo! - rzecze. -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Gdzie to się waszmość tak pomału wlecze?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Mój Boże! Cóż to za układ natury!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Mnie w biegu i sam wiatr nie upędzi,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Żółw na godzinę, w swym chodzie ponury,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Ledwo upełznie trzy piędzi."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"Hola! - odpowie - mój ty wiatronogi: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Umiem ja chodzić i odbywam drogi: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Mogę i ciebie ubiec do celu."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1808280"/>
            <a:ext cx="28814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66ff"/>
                </a:solidFill>
                <a:latin typeface="Arial"/>
              </a:rPr>
              <a:t>Maria Kryńska–Szost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 moim ogrodzie są studn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yschnięte na cztery sążn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amion twych nie wystarcz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by objąć ani dosięgnąć d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a łez by napełnić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4156200"/>
            <a:ext cx="324000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66ff"/>
                </a:solidFill>
                <a:latin typeface="Arial"/>
              </a:rPr>
              <a:t>Vicino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Na bezludnej wysiąść wyspi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Gdzie ogromny pałac sto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 nim kominek – oczywiści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 bibliotece mnóstwo książe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A w sypialni z baldachimem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Stoi łoże na sześć łokci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-17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MIERZENIE ODCINKÓW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2000" y="728640"/>
            <a:ext cx="806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92000" y="108900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yznaczanie długości odcink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50920" y="1449360"/>
            <a:ext cx="738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dcinek MN jest 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odcinkiem jednostkowy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o zapisujemy |MN| = 1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zytamy: 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długość odcinka MN jest równa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2349360"/>
            <a:ext cx="215892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2843280"/>
            <a:ext cx="53964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11280" y="2168640"/>
            <a:ext cx="53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11280" y="234144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7200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28828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97000" y="28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50920" y="333864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ysujemy prostą a, po czym odkładamy na niej odcinek MN za pomocą cyrk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50920" y="5950080"/>
            <a:ext cx="73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52000" y="5589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2464200">
            <a:off x="926640" y="405936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2464200">
            <a:off x="1510920" y="405936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 rot="2464200">
            <a:off x="2096640" y="405936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 rot="2464200">
            <a:off x="2680920" y="4059360"/>
            <a:ext cx="1906560" cy="190656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1422360" y="5950080"/>
            <a:ext cx="2656080" cy="368280"/>
            <a:chOff x="1422360" y="5950080"/>
            <a:chExt cx="2656080" cy="368280"/>
          </a:xfrm>
        </p:grpSpPr>
        <p:sp>
          <p:nvSpPr>
            <p:cNvPr id="134" name=""/>
            <p:cNvSpPr/>
            <p:nvPr/>
          </p:nvSpPr>
          <p:spPr>
            <a:xfrm>
              <a:off x="1422360" y="5950080"/>
              <a:ext cx="3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62360" y="5950080"/>
              <a:ext cx="3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021280" y="4194000"/>
            <a:ext cx="322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Odcinek MN mieści się 4 razy w odcinku KL, zatem długość odcinka KL równa się 4, co zapisujemy |KL|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71640" y="-179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MIERZENIE ODCINK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2000" y="728640"/>
            <a:ext cx="806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raz 24" descr=""/>
          <p:cNvPicPr/>
          <p:nvPr/>
        </p:nvPicPr>
        <p:blipFill>
          <a:blip r:embed="rId1"/>
          <a:srcRect l="1585" t="6590" r="1303" b="8112"/>
          <a:stretch/>
        </p:blipFill>
        <p:spPr>
          <a:xfrm>
            <a:off x="1476360" y="3500280"/>
            <a:ext cx="7056360" cy="1516320"/>
          </a:xfrm>
          <a:prstGeom prst="rect">
            <a:avLst/>
          </a:prstGeom>
          <a:ln w="0">
            <a:noFill/>
          </a:ln>
        </p:spPr>
      </p:pic>
      <p:pic>
        <p:nvPicPr>
          <p:cNvPr id="140" name="Obraz 24" descr=""/>
          <p:cNvPicPr/>
          <p:nvPr/>
        </p:nvPicPr>
        <p:blipFill>
          <a:blip r:embed="rId2"/>
          <a:srcRect l="1585" t="6590" r="1303" b="8112"/>
          <a:stretch/>
        </p:blipFill>
        <p:spPr>
          <a:xfrm>
            <a:off x="1476360" y="1268280"/>
            <a:ext cx="7059600" cy="1516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692360" y="3573360"/>
            <a:ext cx="39592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328464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3284640"/>
            <a:ext cx="2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51577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Długość odcinka AB równa się 12 cm, co zapisujemy |AB| = 12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rot="2464200">
            <a:off x="6556320" y="2285640"/>
            <a:ext cx="2587680" cy="2587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71640" y="-142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MIERZENIE ODCINK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765000"/>
            <a:ext cx="806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3720" y="1263600"/>
            <a:ext cx="765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dmierzanie długości odcinka za pomocą cyrkla i linij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25520" y="1805040"/>
            <a:ext cx="65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ny jest odcinek KL. Odmierzamy jego długość za pomocą cyrkla i przykładamy do linij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Obraz 24" descr=""/>
          <p:cNvPicPr/>
          <p:nvPr/>
        </p:nvPicPr>
        <p:blipFill>
          <a:blip r:embed="rId2"/>
          <a:srcRect l="1585" t="6590" r="1303" b="8112"/>
          <a:stretch/>
        </p:blipFill>
        <p:spPr>
          <a:xfrm>
            <a:off x="2166840" y="5353200"/>
            <a:ext cx="5591160" cy="1201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458120" y="4871880"/>
            <a:ext cx="78084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57880" y="4932360"/>
            <a:ext cx="16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KL| = 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4.07407E-006 L -0.55886 0.07893 E">
                                      <p:cBhvr>
                                        <p:cTn id="10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050920" y="1557360"/>
            <a:ext cx="58341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66ff"/>
                </a:solidFill>
                <a:uFillTx/>
                <a:latin typeface="Verdana"/>
              </a:rPr>
              <a:t>Ćwiczenie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rysuj dowolny odcinek. Obierz odcinek jednostkowy i zmierz długość odcinka za pomocą cyrkla i linij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71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EDNOSTKI DŁUGOŚCI </a:t>
            </a:r>
            <a:br>
              <a:rPr sz="3000"/>
            </a:b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UŻYWANE NAJCZĘŚCIE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1123920"/>
            <a:ext cx="806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1989000"/>
            <a:ext cx="4176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1 milimetr – 1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1 centymetr – 1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1 decymetr – 1 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1 metr – 1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1 kilometr – 1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1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ZALEŻNOŚCI MIĘDZY JEDNOSTKAMI DŁUGOŚ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1123920"/>
            <a:ext cx="806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1640" y="2060640"/>
            <a:ext cx="7561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1 cm = 1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1 dm = 10 cm = 10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1 m = 10 dm = 100 cm = 1 00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1 km = 1 000 m = 10 000 dm = 100 000 cm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         </a:t>
            </a: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= 1 000 00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0:36:11Z</dcterms:created>
  <dc:creator>Darek</dc:creator>
  <dc:description/>
  <dc:language>en-US</dc:language>
  <cp:lastModifiedBy>Darek</cp:lastModifiedBy>
  <dcterms:modified xsi:type="dcterms:W3CDTF">2013-08-17T20:50:27Z</dcterms:modified>
  <cp:revision>15</cp:revision>
  <dc:subject/>
  <dc:title>Slajd 1</dc:title>
</cp:coreProperties>
</file>